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whoosh.wav" ContentType="audio/x-wav"/>
  <Override PartName="/ppt/media/image28.png" ContentType="image/png"/>
  <Override PartName="/ppt/media/image29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25.jpeg" ContentType="image/jpeg"/>
  <Override PartName="/ppt/media/image26.jpeg" ContentType="image/jpeg"/>
  <Override PartName="/ppt/media/image5.png" ContentType="image/png"/>
  <Override PartName="/ppt/media/applause.wav" ContentType="audio/x-wav"/>
  <Override PartName="/ppt/media/camera.wav" ContentType="audio/x-wav"/>
  <Override PartName="/ppt/media/breeze.wav" ContentType="audio/x-wav"/>
  <Override PartName="/ppt/media/image10.png" ContentType="image/png"/>
  <Override PartName="/ppt/media/image8.png" ContentType="image/png"/>
  <Override PartName="/ppt/media/image14.jpeg" ContentType="image/jpeg"/>
  <Override PartName="/ppt/media/chimes.wav" ContentType="audio/x-wav"/>
  <Override PartName="/ppt/media/wind.wav" ContentType="audio/x-wav"/>
  <Override PartName="/ppt/media/image16.png" ContentType="image/png"/>
  <Override PartName="/ppt/media/image27.png" ContentType="image/png"/>
  <Override PartName="/ppt/media/drumroll.wav" ContentType="audio/x-wav"/>
  <Override PartName="/ppt/media/image3.png" ContentType="image/png"/>
  <Override PartName="/ppt/media/image23.jpeg" ContentType="image/jpeg"/>
  <Override PartName="/ppt/media/image1.png" ContentType="image/png"/>
  <Override PartName="/ppt/media/cashreg.wav" ContentType="audio/x-wav"/>
  <Override PartName="/ppt/media/image9.png" ContentType="image/png"/>
  <Override PartName="/ppt/media/image11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088C-27E8-479B-B650-18577206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43D-418E-466F-8E18-D9395A26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DD2E-DC28-496B-B435-C45016A0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4D30-B52D-4F1B-8074-9154D26B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6F4-F63F-42F7-B623-62BBDE38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2BE-08D1-4579-88EF-9443FFBC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7E6-8967-4FF8-AD93-EE2B1BC7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FAA4-6E15-4016-A260-C39FDB14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F6F-9690-41CF-88C7-D5AAF2B9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5C68-748A-46E1-B64A-A1A3879F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170-2ADB-4AFE-A9AD-80F64DD0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083-F9DE-4D9A-B191-B5C5B797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E7CE-C311-423D-90AF-286626ED9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jpe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5.jpeg"/><Relationship Id="rId18" Type="http://schemas.openxmlformats.org/officeDocument/2006/relationships/image" Target="../media/image26.jpe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9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2514600" y="0"/>
            <a:ext cx="7645320" cy="76201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97000" y="812880"/>
            <a:ext cx="2031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ucy 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60" y="380880"/>
            <a:ext cx="855180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d0d0d"/>
                </a:solidFill>
                <a:latin typeface="Arial"/>
              </a:rPr>
              <a:t>ABOUT CONVER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61240" y="266760"/>
            <a:ext cx="2679480" cy="1809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276120" y="2179800"/>
            <a:ext cx="66358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e were especially made for basketb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52440" y="3322800"/>
            <a:ext cx="6178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e were introduced in the 1910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28760" y="4465800"/>
            <a:ext cx="6026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ck Taylor started wearing converse in 19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52440" y="5761080"/>
            <a:ext cx="87692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World War 2 Chuck Taylor sneakers became the official sneaker of the US Armed fo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3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355320"/>
            <a:ext cx="83232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39d"/>
                </a:solidFill>
                <a:latin typeface="Arial"/>
              </a:rPr>
              <a:t>WHO WAS CHUCK TAYLOR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95360" y="1828800"/>
            <a:ext cx="832320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036"/>
                </a:solidFill>
                <a:latin typeface="Arial"/>
              </a:rPr>
              <a:t>Chuck Taylor was born June 24, 19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036"/>
                </a:solidFill>
                <a:latin typeface="Arial"/>
              </a:rPr>
              <a:t>He was an All Star him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036"/>
                </a:solidFill>
                <a:latin typeface="Arial"/>
              </a:rPr>
              <a:t>He retired in 196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036"/>
                </a:solidFill>
                <a:latin typeface="Arial"/>
              </a:rPr>
              <a:t>He died June 23, 1969 one day before his 68th birth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  <p:sndAc>
      <p:stSnd>
        <p:snd r:embed="rId2" name="breeze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355320"/>
            <a:ext cx="83232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39d"/>
                </a:solidFill>
                <a:latin typeface="Arial"/>
              </a:rPr>
              <a:t>CONVERSE…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279360" y="1828800"/>
            <a:ext cx="1316160" cy="1285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650960" y="1828800"/>
            <a:ext cx="431172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the converse they used in World War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203560" y="3352680"/>
            <a:ext cx="53784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older high top conver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352440" y="6324480"/>
            <a:ext cx="2327400" cy="129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4"/>
          <a:stretch/>
        </p:blipFill>
        <p:spPr>
          <a:xfrm>
            <a:off x="2563920" y="6305400"/>
            <a:ext cx="1982520" cy="1314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4565520" y="6781680"/>
            <a:ext cx="469296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N CONVERS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5"/>
          <a:stretch/>
        </p:blipFill>
        <p:spPr>
          <a:xfrm>
            <a:off x="352440" y="3352680"/>
            <a:ext cx="1878120" cy="101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6"/>
          <a:stretch/>
        </p:blipFill>
        <p:spPr>
          <a:xfrm>
            <a:off x="428760" y="4495680"/>
            <a:ext cx="1458720" cy="1447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2066760" y="5151600"/>
            <a:ext cx="47307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converse worn in the 80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7" name="cashreg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704960" y="4465800"/>
            <a:ext cx="4311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23760" y="426960"/>
            <a:ext cx="846468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39d"/>
                </a:solidFill>
                <a:latin typeface="Arial"/>
              </a:rPr>
              <a:t>FACTS…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771480" y="2027160"/>
            <a:ext cx="93535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036"/>
                </a:solidFill>
                <a:latin typeface="Arial"/>
              </a:rPr>
              <a:t>Converse were not very popular until Chuck Taylor adopted them as his preferred sho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923760" y="3475080"/>
            <a:ext cx="92012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036"/>
                </a:solidFill>
                <a:latin typeface="Arial"/>
              </a:rPr>
              <a:t>Classic black converse are the most popular but Chuck preferred whi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771480" y="4846680"/>
            <a:ext cx="935352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036"/>
                </a:solidFill>
                <a:latin typeface="Arial"/>
              </a:rPr>
              <a:t>Customers demanded more variety from the sho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036"/>
                </a:solidFill>
                <a:latin typeface="Arial"/>
              </a:rPr>
              <a:t>( Particularly for the shoe to match the basketball teams colors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923760" y="6370560"/>
            <a:ext cx="87696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036"/>
                </a:solidFill>
                <a:latin typeface="Arial"/>
              </a:rPr>
              <a:t>Soon they were made in different fabrics such as leather, suede, vinyl, deni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lus/>
    <p:sndAc>
      <p:stSnd>
        <p:snd r:embed="rId2" name="whoosh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2600" y="457200"/>
            <a:ext cx="8208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39d"/>
                </a:solidFill>
                <a:latin typeface="Arial"/>
              </a:rPr>
              <a:t>FACTS (CONTINUED)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552600" y="1828800"/>
            <a:ext cx="8208720" cy="42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036"/>
                </a:solidFill>
                <a:latin typeface="Arial"/>
              </a:rPr>
              <a:t>Other styles of the came later such as the low top converse and later the knee high conve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036"/>
                </a:solidFill>
                <a:latin typeface="Arial"/>
              </a:rPr>
              <a:t>Converse were bought by Nike in 200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036"/>
                </a:solidFill>
                <a:latin typeface="Arial"/>
              </a:rPr>
              <a:t>Later they made new converse with no laces, held up by elast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036"/>
                </a:solidFill>
                <a:latin typeface="Arial"/>
              </a:rPr>
              <a:t>Many bands adopted the shoe a fashion trend in the 70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2" name="wind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2600" y="355320"/>
            <a:ext cx="82087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39d"/>
                </a:solidFill>
                <a:latin typeface="Arial"/>
              </a:rPr>
              <a:t>CONVER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5899320" y="324000"/>
            <a:ext cx="31939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3"/>
          <a:stretch/>
        </p:blipFill>
        <p:spPr>
          <a:xfrm>
            <a:off x="0" y="2514600"/>
            <a:ext cx="1735200" cy="1295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4"/>
          <a:stretch/>
        </p:blipFill>
        <p:spPr>
          <a:xfrm>
            <a:off x="1724040" y="2514600"/>
            <a:ext cx="181296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5"/>
          <a:stretch/>
        </p:blipFill>
        <p:spPr>
          <a:xfrm>
            <a:off x="3554280" y="2438280"/>
            <a:ext cx="1459080" cy="129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6"/>
          <a:stretch/>
        </p:blipFill>
        <p:spPr>
          <a:xfrm>
            <a:off x="5002200" y="2438280"/>
            <a:ext cx="1679760" cy="1295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7"/>
          <a:stretch/>
        </p:blipFill>
        <p:spPr>
          <a:xfrm>
            <a:off x="6670800" y="2362320"/>
            <a:ext cx="1612800" cy="1428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8"/>
          <a:stretch/>
        </p:blipFill>
        <p:spPr>
          <a:xfrm>
            <a:off x="8424720" y="2438280"/>
            <a:ext cx="1735200" cy="1305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9"/>
          <a:stretch/>
        </p:blipFill>
        <p:spPr>
          <a:xfrm>
            <a:off x="0" y="3809880"/>
            <a:ext cx="1582560" cy="1257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10"/>
          <a:stretch/>
        </p:blipFill>
        <p:spPr>
          <a:xfrm>
            <a:off x="1495440" y="3809880"/>
            <a:ext cx="1469880" cy="1238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"/>
          <p:cNvPicPr/>
          <p:nvPr/>
        </p:nvPicPr>
        <p:blipFill>
          <a:blip r:embed="rId11"/>
          <a:stretch/>
        </p:blipFill>
        <p:spPr>
          <a:xfrm>
            <a:off x="2944800" y="3809880"/>
            <a:ext cx="1230480" cy="1219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"/>
          <p:cNvPicPr/>
          <p:nvPr/>
        </p:nvPicPr>
        <p:blipFill>
          <a:blip r:embed="rId12"/>
          <a:stretch/>
        </p:blipFill>
        <p:spPr>
          <a:xfrm>
            <a:off x="4240080" y="3809880"/>
            <a:ext cx="1203480" cy="1219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"/>
          <p:cNvPicPr/>
          <p:nvPr/>
        </p:nvPicPr>
        <p:blipFill>
          <a:blip r:embed="rId13"/>
          <a:stretch/>
        </p:blipFill>
        <p:spPr>
          <a:xfrm>
            <a:off x="5451480" y="3733920"/>
            <a:ext cx="1306440" cy="12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"/>
          <p:cNvPicPr/>
          <p:nvPr/>
        </p:nvPicPr>
        <p:blipFill>
          <a:blip r:embed="rId14"/>
          <a:stretch/>
        </p:blipFill>
        <p:spPr>
          <a:xfrm>
            <a:off x="6746760" y="3809880"/>
            <a:ext cx="1698840" cy="127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"/>
          <p:cNvPicPr/>
          <p:nvPr/>
        </p:nvPicPr>
        <p:blipFill>
          <a:blip r:embed="rId15"/>
          <a:stretch/>
        </p:blipFill>
        <p:spPr>
          <a:xfrm>
            <a:off x="8348760" y="3809880"/>
            <a:ext cx="1811160" cy="1228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8" descr=""/>
          <p:cNvPicPr/>
          <p:nvPr/>
        </p:nvPicPr>
        <p:blipFill>
          <a:blip r:embed="rId16"/>
          <a:stretch/>
        </p:blipFill>
        <p:spPr>
          <a:xfrm>
            <a:off x="0" y="5181480"/>
            <a:ext cx="1706400" cy="1447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9" descr=""/>
          <p:cNvPicPr/>
          <p:nvPr/>
        </p:nvPicPr>
        <p:blipFill>
          <a:blip r:embed="rId17"/>
          <a:stretch/>
        </p:blipFill>
        <p:spPr>
          <a:xfrm>
            <a:off x="1647720" y="5181480"/>
            <a:ext cx="1917720" cy="1447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0" descr=""/>
          <p:cNvPicPr/>
          <p:nvPr/>
        </p:nvPicPr>
        <p:blipFill>
          <a:blip r:embed="rId18"/>
          <a:stretch/>
        </p:blipFill>
        <p:spPr>
          <a:xfrm>
            <a:off x="3554280" y="5105520"/>
            <a:ext cx="1603440" cy="160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1" descr=""/>
          <p:cNvPicPr/>
          <p:nvPr/>
        </p:nvPicPr>
        <p:blipFill>
          <a:blip r:embed="rId19"/>
          <a:stretch/>
        </p:blipFill>
        <p:spPr>
          <a:xfrm>
            <a:off x="5146560" y="5105520"/>
            <a:ext cx="1535400" cy="1523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2" descr=""/>
          <p:cNvPicPr/>
          <p:nvPr/>
        </p:nvPicPr>
        <p:blipFill>
          <a:blip r:embed="rId20"/>
          <a:stretch/>
        </p:blipFill>
        <p:spPr>
          <a:xfrm>
            <a:off x="6594480" y="5086440"/>
            <a:ext cx="2603520" cy="2533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21" name="camera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4920" y="6141960"/>
            <a:ext cx="1009008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Lucy .P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3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4280" y="304560"/>
            <a:ext cx="820872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39d"/>
                </a:solidFill>
                <a:latin typeface="Arial"/>
              </a:rPr>
              <a:t>THANK YOU FOR WATCHING!!!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ut thruBlk="true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ittleton Public Schools</cp:lastModifiedBy>
  <dcterms:modified xsi:type="dcterms:W3CDTF">2009-11-20T19:21:19Z</dcterms:modified>
  <cp:revision>7</cp:revision>
  <dc:subject/>
  <dc:title>PowerPoint Presentation</dc:title>
</cp:coreProperties>
</file>